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7EE9-C724-4A8F-A75E-1C34ADCEF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28DE-E861-40E9-81C0-EFE1AC33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920F-5581-42EF-8172-ACDB4538B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69A2-121B-4EB9-833B-84DA74D16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ABA6-658E-4E7F-ACE6-E981763FA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6FC5-2988-421E-B133-ECF75459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DCC8-5CEF-43CC-BAD7-40D05B2C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3469-114C-4677-98AF-3DD443C1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0DDB-44A4-49EB-879C-62044AA9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960D-F9A3-448A-87F4-0E4ADB91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5315-F313-44CF-A057-528E050C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623C-FEE9-41CA-B848-0C56540C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ACA0-4133-47DB-B026-5231CCE0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2100-63D6-4D9D-BA27-5004A5BE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0744-5332-467A-9491-808751B5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062C-5C71-4625-B733-C57387BCD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848E-1148-4F74-B7F6-BDED99242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B354-AE9B-4076-9475-93D77D18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A470-E27E-4370-9840-D89880D5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66D2-01CA-4480-8F94-42DDB88D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C4FF-4026-4567-875D-1DCFF9F9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44CB-4F91-4555-A1EC-08B04BE1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F540-95A1-43F8-924D-CB203723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F4F5-E3C9-4630-BB08-BCDC47AE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20280" y="-418320"/>
            <a:ext cx="2669400" cy="7673760"/>
            <a:chOff x="-620280" y="-418320"/>
            <a:chExt cx="2669400" cy="7673760"/>
          </a:xfrm>
        </p:grpSpPr>
        <p:sp>
          <p:nvSpPr>
            <p:cNvPr id="1" name=""/>
            <p:cNvSpPr/>
            <p:nvPr/>
          </p:nvSpPr>
          <p:spPr>
            <a:xfrm rot="2700000">
              <a:off x="-320760" y="-11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2700000">
              <a:off x="-321120" y="-1191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2700000">
              <a:off x="-312480" y="-1116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700000">
              <a:off x="-308520" y="-1137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2700000">
              <a:off x="52920" y="2581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700000">
              <a:off x="-320040" y="1129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700000">
              <a:off x="-321480" y="1121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2700000">
              <a:off x="-312480" y="1129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700000">
              <a:off x="-308520" y="1127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2700000">
              <a:off x="52920" y="1504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2700000">
              <a:off x="-320040" y="2380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00000">
              <a:off x="-320040" y="363636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700000">
              <a:off x="-321480" y="362844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700000">
              <a:off x="-312480" y="36360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2700000">
              <a:off x="-308520" y="363420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2700000">
              <a:off x="52920" y="4006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2700000">
              <a:off x="-320760" y="488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8900000">
              <a:off x="290520" y="51660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8900000">
              <a:off x="281520" y="515880"/>
              <a:ext cx="144432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8900000">
              <a:off x="285840" y="51588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8900000">
              <a:off x="281160" y="51696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900000">
              <a:off x="688680" y="8960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900000">
              <a:off x="300240" y="1758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900000">
              <a:off x="291240" y="175752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900000">
              <a:off x="295200" y="1757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900000">
              <a:off x="285840" y="1758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900000">
              <a:off x="687960" y="2137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rot="2700000">
              <a:off x="-321480" y="2372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rot="2700000">
              <a:off x="-312480" y="2380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2700000">
              <a:off x="-303840" y="2378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2700000">
              <a:off x="52920" y="2755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900000">
              <a:off x="304920" y="300888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900000">
              <a:off x="305280" y="3008880"/>
              <a:ext cx="144432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900000">
              <a:off x="300600" y="3008160"/>
              <a:ext cx="144324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900000">
              <a:off x="290520" y="3009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900000">
              <a:off x="693000" y="3388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900000">
              <a:off x="300240" y="426492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900000">
              <a:off x="291240" y="426420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8900000">
              <a:off x="295200" y="426384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8900000">
              <a:off x="290520" y="426492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8900000">
              <a:off x="687960" y="464436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2700000">
              <a:off x="-321120" y="48747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700000">
              <a:off x="-312480" y="4882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700000">
              <a:off x="-308520" y="48801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700000">
              <a:off x="52920" y="5257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900000">
              <a:off x="300240" y="5511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8900000">
              <a:off x="291240" y="5510880"/>
              <a:ext cx="144360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8900000">
              <a:off x="295200" y="5510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8900000">
              <a:off x="285840" y="5511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900000">
              <a:off x="688680" y="58903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18C7-FFBF-45DB-A51D-7039F661F03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93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C6B5-0908-4167-B94C-2C86F636A24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9219960" cy="6915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724280" y="304920"/>
            <a:ext cx="441972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Getting to know the Wireless Laptop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80600" y="990720"/>
            <a:ext cx="568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99"/>
                </a:solidFill>
                <a:latin typeface="Times New Roman"/>
              </a:rPr>
              <a:t>Caring for the Laptop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94440" y="2057400"/>
            <a:ext cx="438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Carry it with both han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14600" y="26668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Use on a flat surface, ON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32767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Do not touch the scree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91200" y="3962520"/>
            <a:ext cx="57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Find a babysitter for your lapto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3160" y="4648320"/>
            <a:ext cx="261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No horsepl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572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593800" y="304920"/>
            <a:ext cx="451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99"/>
                </a:solidFill>
                <a:latin typeface="Times New Roman"/>
              </a:rPr>
              <a:t>Using the Laptop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441972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 • </a:t>
            </a: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Use one finger to mou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7280" y="1492200"/>
            <a:ext cx="31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ffff"/>
                </a:solidFill>
                <a:latin typeface="Times New Roman"/>
              </a:rPr>
              <a:t>Getting Started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36480" y="3048120"/>
            <a:ext cx="285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Open careful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4320" y="3733920"/>
            <a:ext cx="390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Push in power butt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0" y="5105520"/>
            <a:ext cx="456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Log in as your user na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514880" y="5029200"/>
            <a:ext cx="726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Close Laptop carefully and return to cart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plug in to recharg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cc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Only an adult may push the car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12920" y="685800"/>
            <a:ext cx="605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99"/>
                </a:solidFill>
                <a:latin typeface="Times New Roman"/>
              </a:rPr>
              <a:t>Using the Laptop, cont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1280" y="2057400"/>
            <a:ext cx="442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ffff"/>
                </a:solidFill>
                <a:latin typeface="Times New Roman"/>
              </a:rPr>
              <a:t>When you’re finished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71360" y="2819520"/>
            <a:ext cx="525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Do not save on the hard dr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cc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Quit all applica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0120" y="3962520"/>
            <a:ext cx="450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•</a:t>
            </a: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Click on the Start Butto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and select  “Shut Down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032280" y="158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609480"/>
            <a:ext cx="6781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7c80"/>
                </a:solidFill>
                <a:latin typeface="Times New Roman"/>
              </a:rPr>
              <a:t>Quiz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243828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71600" y="24382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ffffcc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How do you carry a laptop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36576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2. How do you turn it on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502920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 What are three things you do when you are finished using the laptop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19:56:06Z</dcterms:created>
  <dc:creator>Summit Ridge Middle School</dc:creator>
  <dc:description/>
  <dc:language>en-US</dc:language>
  <cp:lastModifiedBy>Jeffco</cp:lastModifiedBy>
  <dcterms:modified xsi:type="dcterms:W3CDTF">2008-01-22T17:31:32Z</dcterms:modified>
  <cp:revision>40</cp:revision>
  <dc:subject/>
  <dc:title>No Slide Title</dc:title>
</cp:coreProperties>
</file>